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BA9-3F75-471B-BC0E-7BFBB3C1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F07-3B52-4FEB-9B18-E4CECC0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3BB-9DD7-4A4C-965E-364319D2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4D3-CC81-4515-AF54-980460BC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05E-5D8B-42ED-89F6-F38AED6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22F-66DB-4321-8648-27A52DB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673-1E90-474C-B413-AB508A1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E4D-FB96-4839-861F-B9B9D341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110-736F-49FF-B273-59FA0A90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461-4951-47FD-9BC7-D28625D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D53-1EB7-4BC8-8FB8-1FB8BC4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8D9-9E52-4BD8-94BA-10D0068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2850-5A3B-48A0-8E9C-C81F3CAC4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5200" y="510552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15T20:56:44Z</dcterms:modified>
  <cp:revision>97</cp:revision>
  <dc:subject/>
  <dc:title>The Art in the State of the Art</dc:title>
</cp:coreProperties>
</file>